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в делопроизвод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внешних особенностей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ридическая достоверность документа (наличие подписей, даты, печат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езолюций, помет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передачи тек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материальной основы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физического состоя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окументацию современных организаций (учреждений) можно разделить на группы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отражающие основную деятельность организации (учреждения), а также ее структурных подраздел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имеющие вспомогательное значение (сроки их хранения от нескольких месяцев до десяти лет и даже боле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 по личному составу (хранятся от нескольких лет до нескольких десятилетий, а некоторые и постоянн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лавными функциями ЦЭЦ (ЭК) являютс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ежегодного отбора документов для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годовых разделов описей дел постоянного хранения, описей дел временного хранения (свыше 10 лет), в том числе и по личному составу, актов о выделении к уничтожению документов и дел, не подлежащих дальнейшему хранен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актов о неисправимом повреждении документов постоянного хранения и актов, о не обнаружении дел, подлежащих передаче на государственное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вопросов о приеме на ведомственное хранение документов личного происхожд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ка и внесение на рассмотрение ЭПК соответствующего архивного учреждения предложений об установлении и изменении сроков хранения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подготовке и рассмотрении проектов нормативных документов и методических пособий по вопросам организации документов в делопроизводстве, экспертизе ценности документов и отбору их на государственное хранение (перечней документов с указанием сроков их хранения, номенклатуры дел, инструкций по делопроизводству и т.п.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перечней особо ценных дел, описей особо ценных де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тодическое руководство и контроль за деятельностью ЭК структурных подразделений и ЭК подведомственных организац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и проведение совместно со службой делопроизводства и ведомственным архивом мероприятий по повышению квалификации членов ЭК структурных подраздел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53760"/>
            <a:ext cx="822960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ЭК (ЭК) проводят заседание в соответствии с планами работы, которые утверждаются руководителями организации. Заседание комиссии проводятся не реже двух раз в год. Решение ЦЭК (ЭК) принимаются большинством голосов, заседание протоколируется, протоколы подписывают председатель и секретарь коми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утверждаются руководителем организации только после их рассмотрения и утверждения ЭПК архивного учреждения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ЦЭК (ЭК), содержащие реш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описей на дела постоянного хранения и по личному состав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проектов типовых и примерных номенклатур дел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зменении сроков хранения документов, установленных типовыми и ведомственными перечнями документов с указанием сроков их хранения, типовыми и примерными номенклатурам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установлении сроков хранения документов, не предусмотренных действующими типовыми и ведомственными перечнями документов с указанием сроков их хранения, а также типовыми и примерными номенклатурам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результате работы экспертной комиссии образуются четыре группы документов с различными сроками хранени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ого хранения в государственных архив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в ведомственном архиве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(до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лежащие уничтожению в связи с истечением срока хра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Сроки хранения устанавливаются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первых, по перечням документов с указанием сроков их хра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вторых, экспертным путем ведущими специалис­тами организ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Что означает экспертиза ценности документов? Для чего она провод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едседателем экспертной комиссии, как правило, назна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секретарь руковод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один из заместителей руководителя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работник службы Д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Где проводится экспертиза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Дайте определение – «ЦЭК (ЭК) организ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Основные функции ЦЭК (ЭК) организ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Что включает в себя обработка дел для хран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Назовите этапы экспертизы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Кого включают в состав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Что является объектами рассмотрения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99B8-52E4-459A-954D-EE5A46073A1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1AFE-F509-4E35-9C95-D1C53D8E71B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06396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бор документов на государственное хранение или установление сроков их хранения на основе принятых критери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Стрелка вниз 3"/>
          <p:cNvSpPr/>
          <p:nvPr/>
        </p:nvSpPr>
        <p:spPr>
          <a:xfrm>
            <a:off x="3805200" y="1749600"/>
            <a:ext cx="1789200" cy="10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осуществляется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делопроизводстве организации (учреждения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ведомственном архив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государственном архи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Оценка документов в делопроизводстве организации (учреждения) проводится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оставлении номенклатуры дел, когда определяется ценность будущего дела на основании перечн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егистрации поступающих в организацию (учреждение) документов (при проставлении на документе индекса определяется его принадлежность к конкретному делу, где и указан срок хран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аправлении документа в дело (исполнитель, подробно изучив вопрос, рассмотренный в документе, квалифицированно может определить принадлежность документ к какому- либо дел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роверке правильности отнесения документов к делам (дела должны быть просмотрены полистно, чтобы исключить возможные ошибк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одготовке дел к последующему хранению после завершения их делопроизводством (осуществляется в структурном подразделении организации (учреждении) лицом ответственным за делопроизводство и контролируется экспертной комиссией организации (учреждения) при сдаче на хранение в архи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основе оценки ценности документов лежат следующие принципы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историзма (требуется рассматривать любое явление в процессе развития и делать анализ закономерностей развития тех или иных общественных явлений, отношен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всесторонности (при экспертизе необходимо изучить внутренние и внешние особенности документ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комплексной оценки документа (документ должны оцениваться в комплексе с другими документами, так как одни документы дополняются другими, третьи повторяют первые, а четвертые могут быть полностью поглощены втор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истема критериев (система научно-обоснованных признаков) на основании которых определяется ценности документов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ие особенности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происхождения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ль и место организации (учреждения, лица) в системе государственного управления или конкретной отрасли, значимость выполняемых ею функц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емя и место образования докумен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содержания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ость события (явления, предмета), отраженного в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яемость информации в других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ое назначение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 и разновидность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30:11Z</dcterms:modified>
  <cp:revision>136</cp:revision>
  <dc:subject/>
  <dc:title>Lecture Template </dc:title>
</cp:coreProperties>
</file>